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18.wmf" ContentType="image/x-wmf"/>
  <Override PartName="/ppt/media/image3.jpeg" ContentType="image/jpeg"/>
  <Override PartName="/ppt/media/image17.wmf" ContentType="image/x-wmf"/>
  <Override PartName="/ppt/media/image7.wmf" ContentType="image/x-wmf"/>
  <Override PartName="/ppt/media/image20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9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040D-D2CD-42D2-9E53-D60F0817423C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Психолог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служба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F2E3-CD79-46B6-B603-536A8A0F68A2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учащими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овая психодиагностика для выявления актуального состояния интеллектуальной и эмоционально-личностной сферы и проведение психопрофилактических и коррекционных меро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ки психологии как учебный предмет дают представление о психической жизни человека, знания о самом себе, знакомят с механизмами управления собственной психи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ологические тренинги и коррекционно-развивающие занятия для гармонизации эмоционально-личностного развития уч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нятия по профессиональному самоопределению с целью формирования у учащихся способности соотносить свои психологические особенности с требованиями профе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ивидуальные консуль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4CBD-978E-4EAB-8641-2A59C426A50C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ст школьной тревожности Филлип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е эмоциональное состояние в школе (контакты со сверстниками, страх самовыражения, в ситуации проверки знаний, перед учителем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8581-9C1F-449B-98D4-3F6F8FF7BF18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педколлекти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ью работы является повышение психологической компетентности учителя, создание комфортного психологического климата в школ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ирование учителей об индивидуальных особенностях развития ребенка для выработки стратегии взаимодействия с ни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сихологическое просвеще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 основных закономерностях развития ребенка на всех возрастных этап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 типологических личностных особенност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 психологических причинах дезадаптации к школ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 развитии познавательной актив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следование эмоционального состояния педколлекти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дивидуальные консульт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3A5D-6795-4663-9F7D-D7FD9F152703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здание в школе единого образовательного и воспитательного пространства, главной ценностью которого явля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чность каждого ребенка, обладающего сознанием, ориентированным на умение при любых условиях и ситуациях сохранять уважение и взаимопонимание друг к друг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общение школьников к традициям и культуре своего народа на основе гармоничного включения богатства национального культурного наследия в общероссийской социокультурный контекс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 толерантности, гуманистического мировоззрения при условии понимания себя как части мирового со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93C0-5010-407D-9865-65BB66C54290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роди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светительская работ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ыступление на классных и общешкольных родительских собран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лияние семейного воспитания на характер ребенка и его адаптацию к школ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ологические особенности детей разных возрас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фликт и стратегии поведения в конфлик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есс и его последств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обенности развития в ранней юности и профессиональное самоопредел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ование ответственности за свою жизнь как профилактика отклонений в поведении, в том числе наркотических зависимос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дивидуальное консультирование родителей по проблемам обучения и воспит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агностика стиля семейного воспитани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 запросам родит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нятия в системе дополнительного образовани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офессиональное самоопредел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AED5-0773-4D0D-9A8F-C576E34990B8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трудничество с ВУЗ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сковский городской психолого-педагогический университет. </a:t>
            </a:r>
            <a:br>
              <a:rPr sz="14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оведение психологической практики для студентов.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ограмма «Психологический классов».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офориентационная работа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туденты оказывают помощь в проведении плановых психологических меро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сковский государственный открытый педагогический университет.</a:t>
            </a:r>
            <a:br>
              <a:rPr sz="14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оведение психологической практики для студентов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туденты оказывают помощь в проведении плановых психологических мероприят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ссийский Государственный Гуманитарный Университет.</a:t>
            </a:r>
            <a:br>
              <a:rPr sz="14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оведение психологической практики для студентов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туденты оказывают помощь в проведении плановых психологических меро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FA63-0D3B-4ECD-95DC-DC4D54273C8C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Психологиче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безопас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с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8CC4-D250-4F70-9982-ED6676498743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Результаты анкетирования шк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D754-AFF8-4245-A305-DAB3B2993C3F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Ожидаемые результа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Monotype Corsiva"/>
              </a:rPr>
              <a:t>Создание комфортной образовательной среды, позволяющей реализоваться личности школьника и педаг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Monotype Corsiva"/>
              </a:rPr>
              <a:t>Формирование педагогического сообщества, включенность всех субъектов образовательного процесса в проектирование адаптивной среды обучения и вос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Модель выпускн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толерантный, способный к сопереживанию и жизни в мире с другими людь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успешный, конкурентносбособный, готовый к самоисследованию и самосовершенствованию, умеющий перестраиваться в динамично меняющемся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имеющий сознательную нравственную пози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понимающий Россию и русского человека через духовное освоение русск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обладающий активной гражданской позиц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9A49-8696-45B8-AFBE-D43D53EBA64E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Этно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Исследование этнического сознания и самосознания, национальных ценностей и ориентаций, национальных ожиданий, национальн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Воспитание этнической толера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Формирование этнического уровня взаимодействия культ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B263-E9B3-4896-8382-439F292E434B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ыт работы школы был представлен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Э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"Разработка модели психологически безопасной психологической среды "Школа Доброты"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Э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"Преподавание психологии как учебного предмета на всех этапах обучения в школе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Э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"Психолого-педагогическое обеспечение личностно-ориентированного образования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CFE9-2E88-46B9-A331-939A2F31CAD5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и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ют привлечению внимания к психической жизн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ывают, что существует класс объектов – человеческие феномены, которые интересны сами по себе и "живут" по определенным законам, показывают уникальность, сложность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ют не только психологическую грамотность, но и развитие внутренней психологическ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осят в образование представление о человеке как главной ценности мира, формируют толерантное отношение к людям, миру, самому себ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0425-28A7-4D1A-BE99-D16D6FB3AB35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7D95-68F4-4EAF-AA59-9E2C7A461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A3D4-8B0D-408E-BBC5-050B3257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0FCC-9201-433E-8969-FC5774F3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0D52-60BE-4B64-9621-0C6E44A27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61AB-4F8E-46F2-AA2D-A7D0BE7E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60E2-F17E-4FDF-9FBF-AD516ED6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306A-AA36-44CA-8B16-5E1CAC51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8CCA-88A1-4477-B945-EDBA2AE4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7550-522F-4A7F-B480-DEA3F3AE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843A-700D-4C4A-A6F0-11856E2A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5968-1FA3-46BD-8B0F-B9C6ED93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8979-57B0-4ACE-B5E9-8635F2EC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EDD2-BD1F-4F27-9754-391F0AD60C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026"/>
          <p:cNvSpPr txBox="1"/>
          <p:nvPr/>
        </p:nvSpPr>
        <p:spPr>
          <a:xfrm>
            <a:off x="1984320" y="1917720"/>
            <a:ext cx="662004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029"/>
                    </a:gs>
                    <a:gs pos="100000">
                      <a:srgbClr val="763b13"/>
                    </a:gs>
                  </a:gsLst>
                  <a:lin ang="0"/>
                </a:gradFill>
                <a:latin typeface="Impact"/>
              </a:rPr>
              <a:t>Психологическа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029"/>
                  </a:gs>
                  <a:gs pos="100000">
                    <a:srgbClr val="763b13"/>
                  </a:gs>
                </a:gsLst>
                <a:lin ang="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029"/>
                    </a:gs>
                    <a:gs pos="100000">
                      <a:srgbClr val="763b13"/>
                    </a:gs>
                  </a:gsLst>
                  <a:lin ang="0"/>
                </a:gradFill>
                <a:latin typeface="Impact"/>
              </a:rPr>
              <a:t>служба школ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029"/>
                  </a:gs>
                  <a:gs pos="100000">
                    <a:srgbClr val="763b13"/>
                  </a:gs>
                </a:gsLst>
                <a:lin ang="0"/>
              </a:gradFill>
              <a:latin typeface="Impact"/>
              <a:ea typeface="Impact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026" descr="Психология 4"/>
          <p:cNvPicPr/>
          <p:nvPr/>
        </p:nvPicPr>
        <p:blipFill>
          <a:blip r:embed="rId1"/>
          <a:stretch/>
        </p:blipFill>
        <p:spPr>
          <a:xfrm>
            <a:off x="324000" y="685800"/>
            <a:ext cx="8569080" cy="55339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026"/>
          <p:cNvSpPr/>
          <p:nvPr/>
        </p:nvSpPr>
        <p:spPr>
          <a:xfrm>
            <a:off x="826920" y="54936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шение учащихся школы № 868 к предмету "Психология"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105" name="Object 1027"/>
          <p:cNvGraphicFramePr/>
          <p:nvPr/>
        </p:nvGraphicFramePr>
        <p:xfrm>
          <a:off x="1476360" y="1387440"/>
          <a:ext cx="6492960" cy="521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387440"/>
                    <a:ext cx="649296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826920" y="54936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шение учащихся школы № 868 к предмету "Психология"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109" name="Object 3"/>
          <p:cNvGraphicFramePr/>
          <p:nvPr/>
        </p:nvGraphicFramePr>
        <p:xfrm>
          <a:off x="1103400" y="1424160"/>
          <a:ext cx="7068960" cy="515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424160"/>
                    <a:ext cx="706896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826920" y="54936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ение учащихся школы № 868 о практической пользе уроков психологии (в настоящий момент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113" name="Object 3"/>
          <p:cNvGraphicFramePr/>
          <p:nvPr/>
        </p:nvGraphicFramePr>
        <p:xfrm>
          <a:off x="108000" y="1484280"/>
          <a:ext cx="9626400" cy="534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484280"/>
                    <a:ext cx="9626400" cy="53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308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826920" y="54936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ение учащихся школы № 868 о практической пользе уроков психологии (в будущем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117" name="Object 3"/>
          <p:cNvGraphicFramePr/>
          <p:nvPr/>
        </p:nvGraphicFramePr>
        <p:xfrm>
          <a:off x="130320" y="1521000"/>
          <a:ext cx="9410400" cy="52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" y="1521000"/>
                    <a:ext cx="9410400" cy="52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с учащими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лановая психодиагностика для выявления актуального состояния интеллектуальной и эмоционально-личностной сферы и проведение психопрофилактических и коррекционных мероприяти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Уроки психологии как учебный предмет дают представление о психической жизни человека, знания о самом себе, знакомят с механизмами управления собственной психико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сихологические тренинги и коррекционно-развивающие занятия для гармонизации эмоционально-личностного развития учащихс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Занятия по профессиональному самоопределению с целью формирования у учащихся способности соотносить свои психологические особенности с требованиями професс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Индивидуальные консультац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3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3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3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3680"/>
                            </p:stCondLst>
                            <p:childTnLst>
                              <p:par>
                                <p:cTn id="3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3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4"/>
          <p:cNvGraphicFramePr/>
          <p:nvPr/>
        </p:nvGraphicFramePr>
        <p:xfrm>
          <a:off x="144360" y="2230560"/>
          <a:ext cx="8820360" cy="429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2230560"/>
                    <a:ext cx="882036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ст школьной тревожности Филлип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9"/>
          <p:cNvSpPr/>
          <p:nvPr/>
        </p:nvSpPr>
        <p:spPr>
          <a:xfrm>
            <a:off x="324000" y="9079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ее эмоциональное состояние в школе (контакты со сверстниками, страх самовыражения, в ситуации проверки знаний, перед учителем и т.д.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3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228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Object 4"/>
          <p:cNvGraphicFramePr/>
          <p:nvPr/>
        </p:nvGraphicFramePr>
        <p:xfrm>
          <a:off x="71280" y="2449440"/>
          <a:ext cx="8964720" cy="436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2449440"/>
                    <a:ext cx="8964720" cy="43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5"/>
          <p:cNvSpPr/>
          <p:nvPr/>
        </p:nvSpPr>
        <p:spPr>
          <a:xfrm>
            <a:off x="457200" y="18900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нкета школьной мотивации Лускановой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951200" y="806400"/>
          <a:ext cx="5789520" cy="1798560"/>
        </p:xfrm>
        <a:graphic>
          <a:graphicData uri="http://schemas.openxmlformats.org/drawingml/2006/table">
            <a:tbl>
              <a:tblPr/>
              <a:tblGrid>
                <a:gridCol w="566640"/>
                <a:gridCol w="5222880"/>
              </a:tblGrid>
              <a:tr h="274320">
                <a:tc gridSpan="2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Уровни мотив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V - 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- высокая и нормальная мотив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- положительное отношение к школе; привлекает внеучебная ст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II -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- низкая мотивация и дезадапт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026" descr="4"/>
          <p:cNvPicPr/>
          <p:nvPr/>
        </p:nvPicPr>
        <p:blipFill>
          <a:blip r:embed="rId1"/>
          <a:stretch/>
        </p:blipFill>
        <p:spPr>
          <a:xfrm>
            <a:off x="142920" y="600120"/>
            <a:ext cx="8893080" cy="56372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с педколлектив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ью работы является повышение психологической компетентности учителя, создание комфортного психологического климата в шко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ирование учителей об индивидуальных особенностях развития ребенка для выработки стратегии взаимодействия с н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логическое просвещ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 основных закономерностях развития ребенка на всех возрастных этап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типологических личностных особенност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психологических причинах дезадаптации к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развитии познавательной ак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следование эмоционального состояния педколлект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ые консуль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4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2880"/>
                            </p:stCondLst>
                            <p:childTnLst>
                              <p:par>
                                <p:cTn id="4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3880"/>
                            </p:stCondLst>
                            <p:childTnLst>
                              <p:par>
                                <p:cTn id="4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4880"/>
                            </p:stCondLst>
                            <p:childTnLst>
                              <p:par>
                                <p:cTn id="4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5880"/>
                            </p:stCondLst>
                            <p:childTnLst>
                              <p:par>
                                <p:cTn id="4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4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4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8880"/>
                            </p:stCondLst>
                            <p:childTnLst>
                              <p:par>
                                <p:cTn id="4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чность каждого ребенка, обладающего сознанием, ориентированным на умение при любых условиях и ситуациях сохранять уважение и взаимопонимание друг к другу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общение школьников к традициям и культуре своего народа на основе гармоничного включения богатства национального культурного наследия в общероссийской социокультурный контекс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е толерантности, гуманистического мировоззрения при условии понимания себя как части мирового со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ние в школе единого образовательного и воспитательного пространства, главной ценностью которого явля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Титова"/>
          <p:cNvPicPr/>
          <p:nvPr/>
        </p:nvPicPr>
        <p:blipFill>
          <a:blip r:embed="rId1"/>
          <a:stretch/>
        </p:blipFill>
        <p:spPr>
          <a:xfrm>
            <a:off x="324000" y="446040"/>
            <a:ext cx="8496000" cy="59659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с родител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светительская работ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ыступление на классных и общешкольных родительских собра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лияние семейного воспитания на характер ребенка и его адаптацию к шк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ологические особенности детей разных возра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фликт и стратегии поведения в конфлик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есс и его послед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обенности развития в ранней юности и профессиональное самоопреде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ование ответственности за свою жизнь как профилактика отклонений в поведении, в том числе наркотических зависим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дивидуальное консультирование родителей по проблемам обучения и вос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агностика стиля семейного воспитани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 запросам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нятия в системе дополнительного образовани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офессиональное самоопреде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4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720"/>
                            </p:stCondLst>
                            <p:childTnLst>
                              <p:par>
                                <p:cTn id="4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720"/>
                            </p:stCondLst>
                            <p:childTnLst>
                              <p:par>
                                <p:cTn id="4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3720"/>
                            </p:stCondLst>
                            <p:childTnLst>
                              <p:par>
                                <p:cTn id="5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4720"/>
                            </p:stCondLst>
                            <p:childTnLst>
                              <p:par>
                                <p:cTn id="5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720"/>
                            </p:stCondLst>
                            <p:childTnLst>
                              <p:par>
                                <p:cTn id="5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6720"/>
                            </p:stCondLst>
                            <p:childTnLst>
                              <p:par>
                                <p:cTn id="5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трудничество с ВУЗ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сковский городской психолого-педагогический университет. </a:t>
            </a:r>
            <a:br>
              <a:rPr sz="24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ведение психологической практики для студентов.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грамма «Психологический классов».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фориентационная работа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туденты оказывают помощь в проведении плановых психологических меропри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сковский государственный открытый педагогический университет.</a:t>
            </a:r>
            <a:br>
              <a:rPr sz="24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ведение психологической практики для студентов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туденты оказывают помощь в проведении плановых психологических мероприят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ссийский Государственный Гуманитарный Университет.</a:t>
            </a:r>
            <a:br>
              <a:rPr sz="24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ведение психологической практики для студентов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туденты оказывают помощь в проведении плановых психологических меропри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0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5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5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2880"/>
                            </p:stCondLst>
                            <p:childTnLst>
                              <p:par>
                                <p:cTn id="5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026" descr="Восхождение к истокам 1-2"/>
          <p:cNvPicPr/>
          <p:nvPr/>
        </p:nvPicPr>
        <p:blipFill>
          <a:blip r:embed="rId1"/>
          <a:stretch/>
        </p:blipFill>
        <p:spPr>
          <a:xfrm>
            <a:off x="77760" y="189000"/>
            <a:ext cx="9036000" cy="64627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1908000" y="1125360"/>
            <a:ext cx="669636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004700"/>
                    </a:gs>
                  </a:gsLst>
                  <a:lin ang="0"/>
                </a:gradFill>
                <a:latin typeface="Impact"/>
              </a:rPr>
              <a:t>Психологическ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004700"/>
                  </a:gs>
                </a:gsLst>
                <a:lin ang="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004700"/>
                    </a:gs>
                  </a:gsLst>
                  <a:lin ang="0"/>
                </a:gradFill>
                <a:latin typeface="Impact"/>
              </a:rPr>
              <a:t>безопасна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004700"/>
                  </a:gs>
                </a:gsLst>
                <a:lin ang="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004700"/>
                    </a:gs>
                  </a:gsLst>
                  <a:lin ang="0"/>
                </a:gradFill>
                <a:latin typeface="Impact"/>
              </a:rPr>
              <a:t>сред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004700"/>
                  </a:gs>
                </a:gsLst>
                <a:lin ang="0"/>
              </a:gradFill>
              <a:latin typeface="Impact"/>
              <a:ea typeface="Impact"/>
            </a:endParaRPr>
          </a:p>
        </p:txBody>
      </p:sp>
      <p:sp>
        <p:nvSpPr>
          <p:cNvPr id="149" name="WordArt 3"/>
          <p:cNvSpPr txBox="1"/>
          <p:nvPr/>
        </p:nvSpPr>
        <p:spPr>
          <a:xfrm>
            <a:off x="1547640" y="4510080"/>
            <a:ext cx="60501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762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езультаты анкетирования школьников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Результаты анкетирования школь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1027"/>
          <p:cNvGraphicFramePr/>
          <p:nvPr/>
        </p:nvGraphicFramePr>
        <p:xfrm>
          <a:off x="2484360" y="2349360"/>
          <a:ext cx="3527640" cy="33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349360"/>
                    <a:ext cx="352764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1028"/>
          <p:cNvGraphicFramePr/>
          <p:nvPr/>
        </p:nvGraphicFramePr>
        <p:xfrm>
          <a:off x="0" y="3890880"/>
          <a:ext cx="2987640" cy="296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Object 10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90880"/>
                    <a:ext cx="2987640" cy="29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1029"/>
          <p:cNvGraphicFramePr/>
          <p:nvPr/>
        </p:nvGraphicFramePr>
        <p:xfrm>
          <a:off x="5873760" y="1268280"/>
          <a:ext cx="3340080" cy="352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Object 102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73760" y="1268280"/>
                    <a:ext cx="334008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0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360"/>
                            </p:stCondLst>
                            <p:childTnLst>
                              <p:par>
                                <p:cTn id="5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1860"/>
                            </p:stCondLst>
                            <p:childTnLst>
                              <p:par>
                                <p:cTn id="5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2360"/>
                            </p:stCondLst>
                            <p:childTnLst>
                              <p:par>
                                <p:cTn id="5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Object 2"/>
          <p:cNvGraphicFramePr/>
          <p:nvPr/>
        </p:nvGraphicFramePr>
        <p:xfrm>
          <a:off x="0" y="2781360"/>
          <a:ext cx="3751200" cy="40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81360"/>
                    <a:ext cx="375120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3"/>
          <p:cNvGraphicFramePr/>
          <p:nvPr/>
        </p:nvGraphicFramePr>
        <p:xfrm>
          <a:off x="2484360" y="0"/>
          <a:ext cx="4319640" cy="400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0"/>
                    <a:ext cx="4319640" cy="40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4"/>
          <p:cNvGraphicFramePr/>
          <p:nvPr/>
        </p:nvGraphicFramePr>
        <p:xfrm>
          <a:off x="5076720" y="2914560"/>
          <a:ext cx="4067280" cy="394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6720" y="2914560"/>
                    <a:ext cx="406728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0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P3030513"/>
          <p:cNvPicPr/>
          <p:nvPr/>
        </p:nvPicPr>
        <p:blipFill>
          <a:blip r:embed="rId1"/>
          <a:stretch/>
        </p:blipFill>
        <p:spPr>
          <a:xfrm>
            <a:off x="468360" y="351000"/>
            <a:ext cx="8280360" cy="6210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жидаемые результ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Monotype Corsiva"/>
              </a:rPr>
              <a:t>Создание комфортной образовательной среды, позволяющей реализоваться личности школьника и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Monotype Corsiva"/>
              </a:rPr>
              <a:t>Формирование педагогического сообщества, включенность всех субъектов образовательного процесса в проектирование адаптивной среды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Модель выпускн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олерантный, способный к сопереживанию и жизни в мире с другими люд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спешный, конкурентносбособный, готовый к самоисследованию и самосовершенствованию, умеющий перестраиваться в динамично меняющемся ми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меющий сознательную нравственную пози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онимающий Россию и русского человека через духовное освоение русской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бладающий активной гражданской пози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0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5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7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Этнопсих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сследование этнического сознания и самосознания, национальных ценностей и ориентаций, национальных ожиданий, национального характ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оспитание этнической толерант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Формирование этнического уровня взаимодействия культу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0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6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6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7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1"/>
          <p:cNvSpPr/>
          <p:nvPr/>
        </p:nvSpPr>
        <p:spPr>
          <a:xfrm>
            <a:off x="885960" y="1700280"/>
            <a:ext cx="7416720" cy="244944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Text Box 34"/>
          <p:cNvSpPr/>
          <p:nvPr/>
        </p:nvSpPr>
        <p:spPr>
          <a:xfrm>
            <a:off x="3279600" y="592200"/>
            <a:ext cx="2629080" cy="66672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Психологическая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служба школы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Text Box 35"/>
          <p:cNvSpPr/>
          <p:nvPr/>
        </p:nvSpPr>
        <p:spPr>
          <a:xfrm>
            <a:off x="2627280" y="1916280"/>
            <a:ext cx="1638360" cy="86508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Тематические лекции для учителей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Text Box 36"/>
          <p:cNvSpPr/>
          <p:nvPr/>
        </p:nvSpPr>
        <p:spPr>
          <a:xfrm>
            <a:off x="3808440" y="2913120"/>
            <a:ext cx="1600200" cy="80316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Развивающие занятия с учащимися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" name="Text Box 37"/>
          <p:cNvSpPr/>
          <p:nvPr/>
        </p:nvSpPr>
        <p:spPr>
          <a:xfrm>
            <a:off x="5865840" y="2913120"/>
            <a:ext cx="1447920" cy="80316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Проведение психотре-нингов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" name="Text Box 38"/>
          <p:cNvSpPr/>
          <p:nvPr/>
        </p:nvSpPr>
        <p:spPr>
          <a:xfrm>
            <a:off x="1814400" y="2913120"/>
            <a:ext cx="1447920" cy="87624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Консультации для родителей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" name="Text Box 39"/>
          <p:cNvSpPr/>
          <p:nvPr/>
        </p:nvSpPr>
        <p:spPr>
          <a:xfrm>
            <a:off x="5048280" y="1916280"/>
            <a:ext cx="1828800" cy="86508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Преподавание предмета психологии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" name="Text Box 40"/>
          <p:cNvSpPr/>
          <p:nvPr/>
        </p:nvSpPr>
        <p:spPr>
          <a:xfrm>
            <a:off x="3635280" y="4437000"/>
            <a:ext cx="2173320" cy="43200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Психопрофилактик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" name="Text Box 44"/>
          <p:cNvSpPr/>
          <p:nvPr/>
        </p:nvSpPr>
        <p:spPr>
          <a:xfrm>
            <a:off x="2390760" y="5199120"/>
            <a:ext cx="2067120" cy="146988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Психодиагностика личности школьников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" name="Text Box 45"/>
          <p:cNvSpPr/>
          <p:nvPr/>
        </p:nvSpPr>
        <p:spPr>
          <a:xfrm>
            <a:off x="4572000" y="5199120"/>
            <a:ext cx="2087640" cy="146988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Психодиагностика личности и деятельности учителя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" name="Text Box 46"/>
          <p:cNvSpPr/>
          <p:nvPr/>
        </p:nvSpPr>
        <p:spPr>
          <a:xfrm>
            <a:off x="179280" y="5029200"/>
            <a:ext cx="2100240" cy="163980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Психодиагностика явлений в школьном коллективе, группе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" name="Text Box 47"/>
          <p:cNvSpPr/>
          <p:nvPr/>
        </p:nvSpPr>
        <p:spPr>
          <a:xfrm>
            <a:off x="6783480" y="4998960"/>
            <a:ext cx="2166840" cy="165600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Выявление психологических особенностей и их влияние на личность школьник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" name="Line 48"/>
          <p:cNvSpPr/>
          <p:nvPr/>
        </p:nvSpPr>
        <p:spPr>
          <a:xfrm flipH="1">
            <a:off x="3922200" y="4869000"/>
            <a:ext cx="18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" name="Line 50"/>
          <p:cNvSpPr/>
          <p:nvPr/>
        </p:nvSpPr>
        <p:spPr>
          <a:xfrm flipH="1">
            <a:off x="1618920" y="4653000"/>
            <a:ext cx="198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" name="Line 51"/>
          <p:cNvSpPr/>
          <p:nvPr/>
        </p:nvSpPr>
        <p:spPr>
          <a:xfrm flipV="1">
            <a:off x="5838840" y="4653000"/>
            <a:ext cx="197316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" name="Line 52"/>
          <p:cNvSpPr/>
          <p:nvPr/>
        </p:nvSpPr>
        <p:spPr>
          <a:xfrm>
            <a:off x="7812000" y="465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9" name="Line 54"/>
          <p:cNvSpPr/>
          <p:nvPr/>
        </p:nvSpPr>
        <p:spPr>
          <a:xfrm>
            <a:off x="460836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" name="Line 57"/>
          <p:cNvSpPr/>
          <p:nvPr/>
        </p:nvSpPr>
        <p:spPr>
          <a:xfrm>
            <a:off x="4284720" y="42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1" name="Line 58"/>
          <p:cNvSpPr/>
          <p:nvPr/>
        </p:nvSpPr>
        <p:spPr>
          <a:xfrm flipV="1">
            <a:off x="5003640" y="42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2" name="Line 59"/>
          <p:cNvSpPr/>
          <p:nvPr/>
        </p:nvSpPr>
        <p:spPr>
          <a:xfrm flipH="1">
            <a:off x="5433480" y="4869000"/>
            <a:ext cx="18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3" name="Line 60"/>
          <p:cNvSpPr/>
          <p:nvPr/>
        </p:nvSpPr>
        <p:spPr>
          <a:xfrm>
            <a:off x="1619280" y="465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826920" y="115920"/>
            <a:ext cx="7772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Благодарим за внимание!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75" name="Picture 1024" descr="Без имени-1"/>
          <p:cNvPicPr/>
          <p:nvPr/>
        </p:nvPicPr>
        <p:blipFill>
          <a:blip r:embed="rId1"/>
          <a:stretch/>
        </p:blipFill>
        <p:spPr>
          <a:xfrm>
            <a:off x="395280" y="981000"/>
            <a:ext cx="8280360" cy="577224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0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026" descr="Психология 1"/>
          <p:cNvPicPr/>
          <p:nvPr/>
        </p:nvPicPr>
        <p:blipFill>
          <a:blip r:embed="rId1"/>
          <a:stretch/>
        </p:blipFill>
        <p:spPr>
          <a:xfrm>
            <a:off x="179280" y="625320"/>
            <a:ext cx="8785440" cy="56073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436680" y="420840"/>
            <a:ext cx="2622600" cy="240012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Психолого-педагогические условия формирования этнокультурной идентичности в образовательном пространстве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708360" y="477720"/>
            <a:ext cx="5184720" cy="251964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Организация учебно-воспитательного процесса на основе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антропологического подхода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4643280" y="1125360"/>
            <a:ext cx="3384720" cy="601920"/>
          </a:xfrm>
          <a:prstGeom prst="rect">
            <a:avLst/>
          </a:prstGeom>
          <a:solidFill>
            <a:srgbClr val="99cc00">
              <a:alpha val="43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Образовательная среда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как система запросов ученик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3851280" y="2095560"/>
            <a:ext cx="1476360" cy="685800"/>
          </a:xfrm>
          <a:prstGeom prst="rect">
            <a:avLst/>
          </a:prstGeom>
          <a:solidFill>
            <a:srgbClr val="99cc00">
              <a:alpha val="43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Мониторинг запросов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5435640" y="1952640"/>
            <a:ext cx="1728720" cy="828720"/>
          </a:xfrm>
          <a:prstGeom prst="rect">
            <a:avLst/>
          </a:prstGeom>
          <a:solidFill>
            <a:srgbClr val="99cc00">
              <a:alpha val="43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Психолого-педагогический консилиум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7275600" y="2095560"/>
            <a:ext cx="1473120" cy="685800"/>
          </a:xfrm>
          <a:prstGeom prst="rect">
            <a:avLst/>
          </a:prstGeom>
          <a:solidFill>
            <a:srgbClr val="99cc00">
              <a:alpha val="43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ИСУ школьников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2340000" y="3176640"/>
            <a:ext cx="6553080" cy="82872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Организация учебно-воспитательного процесса  на основе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системы традиционных этнических ценностей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(коллективизм, соборность, общинность)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2340000" y="4292640"/>
            <a:ext cx="6553080" cy="122868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Развитие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профессиональных компетентностей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учителей. Совершенствование психологической культуры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Повышение квалификации педагогического состав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Качественные изменения кадрового состав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2340000" y="5805360"/>
            <a:ext cx="6553080" cy="68580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Взаимодействие с семьей,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как источника «культуры национального чувства и патриотической верности» (И. Ильин)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478800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78850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8" name="Line 20"/>
          <p:cNvSpPr/>
          <p:nvPr/>
        </p:nvSpPr>
        <p:spPr>
          <a:xfrm>
            <a:off x="6300720" y="1773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419640" y="1773360"/>
            <a:ext cx="5508360" cy="424800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Создание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психологически безопасной среды для всех участников образовательного пространства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на основе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успешности в обучении;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эмоциональной устойчивости;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готовности к психологическим нагрузкам;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толерантности;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умения принимать решения  и нести ответственность за их последствия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36680" y="420840"/>
            <a:ext cx="2622600" cy="240012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Психолого-педагогические условия формирования этнокультурной идентичности в образовательном пространстве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1026"/>
          <p:cNvSpPr txBox="1"/>
          <p:nvPr/>
        </p:nvSpPr>
        <p:spPr>
          <a:xfrm>
            <a:off x="1547640" y="1773360"/>
            <a:ext cx="741708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029"/>
                    </a:gs>
                    <a:gs pos="100000">
                      <a:srgbClr val="763b13"/>
                    </a:gs>
                  </a:gsLst>
                  <a:lin ang="0"/>
                </a:gradFill>
                <a:latin typeface="Impact"/>
              </a:rPr>
              <a:t>Инновационна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029"/>
                  </a:gs>
                  <a:gs pos="100000">
                    <a:srgbClr val="763b13"/>
                  </a:gs>
                </a:gsLst>
                <a:lin ang="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029"/>
                    </a:gs>
                    <a:gs pos="100000">
                      <a:srgbClr val="763b13"/>
                    </a:gs>
                  </a:gsLst>
                  <a:lin ang="0"/>
                </a:gradFill>
                <a:latin typeface="Impact"/>
              </a:rPr>
              <a:t>деятельность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029"/>
                  </a:gs>
                  <a:gs pos="100000">
                    <a:srgbClr val="763b13"/>
                  </a:gs>
                </a:gsLst>
                <a:lin ang="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029"/>
                    </a:gs>
                    <a:gs pos="100000">
                      <a:srgbClr val="763b13"/>
                    </a:gs>
                  </a:gsLst>
                  <a:lin ang="0"/>
                </a:gradFill>
                <a:latin typeface="Impact"/>
              </a:rPr>
              <a:t>школ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029"/>
                  </a:gs>
                  <a:gs pos="100000">
                    <a:srgbClr val="763b13"/>
                  </a:gs>
                </a:gsLst>
                <a:lin ang="0"/>
              </a:gradFill>
              <a:latin typeface="Impact"/>
              <a:ea typeface="Impact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1592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Э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"Разработка модели психологически безопасной психологической среды "Школа Доброты"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Э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"Преподавание психологии как учебного предмета на всех этапах обучения в школе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Э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"Психолого-педагогическое обеспечение личностно-ориентированного образования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250920" y="2708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пыт работы школы был представлен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468360" y="3573360"/>
            <a:ext cx="82296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Российско-германском семинаре "Школа без стресса", 2005 год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Всероссийской конференции "Преподавание психологии как предмета", 2005 год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 рамках Российско-германского проекта "Школа без стресса, май 2006 года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II – XV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народных рождественских образовательных чтениях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ки псих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ствуют привлечению внимания к психической жизни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ывают, что существует класс объектов – человеческие феномены, которые интересны сами по себе и "живут" по определенным законам, показывают уникальность, сложность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агают не только психологическую грамотность, но и развитие внутренней психологической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осят в образование представление о человеке как главной ценности мира, формируют толерантное отношение к людям, миру, самому с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64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640"/>
                            </p:stCondLst>
                            <p:childTnLst>
                              <p:par>
                                <p:cTn id="2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07:16:14Z</dcterms:created>
  <dc:creator>Dmitry</dc:creator>
  <dc:description/>
  <dc:language>en-US</dc:language>
  <cp:lastModifiedBy>LEGION</cp:lastModifiedBy>
  <dcterms:modified xsi:type="dcterms:W3CDTF">2014-11-12T08:52:51Z</dcterms:modified>
  <cp:revision>27</cp:revision>
  <dc:subject/>
  <dc:title>Rr</dc:title>
</cp:coreProperties>
</file>